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31FB-05F0-4049-A33B-7B0770635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Dynamic: With pull down, overlaps With pull up, dead space during precharge. Probably mor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s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r: we only use one 1 Row decoder to save space, unlike the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 has one row decoder per 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, less decoders =&gt; cut down in spa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=&gt; each decoders will have more load but had logics to choose which bank of WL to charg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 plan to expand this for burs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ecoders are for Read (Column, Bank) Write (Column, B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chose to use an unsual addressing sche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ce our caches 8kbytes in size, it means 11 bits for addressing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used the first bit… blah blah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means that instead of reading in blocks, we read across all our 16 blocks. After reading 2 words, instead of going to the next row to read the next word we would go to the next block to read the next wor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ason for this addressing scheme was to implement our special feature called Burst Mod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st Mode would allow us to read multiple words in one cycle. Burst mode is built around the idea of spatial locality where when reading one data there is a very high chance of reading the next few words. Our addressing scheme would allow parallel reading of word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achieve this we used these decodes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ever, Burst mode meant more complex logic. Unfortunately, we haven’t gotten to implement in testing because of time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che 8kBytes, 2 words per column in a bank, 16 banks, 64 rows =&gt; 1 column, 4 bank, 6 row deco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ddress progresses horizontally unlike us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ded to work for  Burst 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 not only one words but multiple words in paralle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words Burst 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tial Loc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gger Output Bus, logics to choose banks and 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 not have enough 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ABD-E544-43D9-9AA7-2E18E38B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D97-DF33-488D-8CD5-E5AF99E0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594-E205-452E-A632-3661F436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8A0-650D-4044-A6DE-A298A53C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D9BC-8096-4DC5-97C9-06D7591B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135C-41D3-4EFA-8907-FD035BA7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2EE2-EEEA-44F9-9927-23216D6A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D564-1465-49CF-B955-B265D1D2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BCC0-8F0A-4C9A-AB04-F8F33021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8613-312D-4068-BC1E-D9959269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DFA4-F712-43CC-A633-D007D2D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EEB-F95A-49D9-978C-D40FFFF3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8D31-D02C-472E-80C2-B5995DF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7350-0736-4157-98D3-1ABEF90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6D7C-D5E5-4C52-B7F7-D46F07CC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BD52-4767-4A3B-96F5-BA41AB36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5C55-E54A-4693-9C2E-D0B27513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402-6E30-42BF-B385-A435841E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695-C93F-4D92-9BF7-2A30329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72A-D3DA-4686-8144-0E4A9B50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D57-7796-4633-BA6B-069FC5F4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654-61F7-4AD7-95C7-7B94407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D03-DE18-40F7-A3F2-A266692D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F79-57D9-4D69-BBF6-B78813B6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E927-635D-4FCA-8A87-DB518E8DFD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8A09-2CCC-439E-9E4D-51C8D4D9F4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gh Speed Cach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E 432 Group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ron Alb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soon K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wamu S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itcel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 Cell Bit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Var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Mar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ic: 1.58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: 0.76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: 1.6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.35 X 7.2 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872320" y="1981080"/>
          <a:ext cx="1779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2320" y="1981080"/>
                    <a:ext cx="1779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657600" y="2590920"/>
          <a:ext cx="533556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90920"/>
                    <a:ext cx="53355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ripheral Circuit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o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static C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of 6-64 decoder: 3.14 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transmission g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of 16-1 Mux: 2.81 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se generator for WL and 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decrease power consumption, by the WL and BL BL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ensure WL is not high during pre-charg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lock Addressing Sche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bits Address. 0 for column, 1-4 for bank address and 5-10 for the r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Burst M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olumn and 2 Bank Decoders for read and write, 1 row dec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72388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mulation Resul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 of SRAM: 6.5mm X 2.5m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.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20.7m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Power: 669.8 m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Delay: 6.8 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Delay: 6.8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Delay: 6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harge Delay 4.4 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Cycle 11 ns  91MH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ric = 6.4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610840" cy="574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920000">
            <a:off x="2285640" y="3048120"/>
            <a:ext cx="20574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838080"/>
            <a:ext cx="121932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14400" y="327636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ro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Types of Faster Dec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on Schediwy Decod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M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st M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0:18:02Z</dcterms:created>
  <dc:creator>aaron albin</dc:creator>
  <dc:description/>
  <dc:language>en-US</dc:language>
  <cp:lastModifiedBy>aaron albin</cp:lastModifiedBy>
  <dcterms:modified xsi:type="dcterms:W3CDTF">2007-12-06T04:26:06Z</dcterms:modified>
  <cp:revision>5</cp:revision>
  <dc:subject/>
  <dc:title>High Speed Cache </dc:title>
</cp:coreProperties>
</file>